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y%20Did%20You%20Do%20That.wav" ContentType="audio/x-wav"/>
  <Override PartName="/ppt/media/image5.png" ContentType="image/png"/>
  <Override PartName="/ppt/media/image2.gif" ContentType="image/gif"/>
  <Override PartName="/ppt/media/image8.jpeg" ContentType="image/jpeg"/>
  <Override PartName="/ppt/media/image7.png" ContentType="image/png"/>
  <Override PartName="/ppt/media/image9.jpeg" ContentType="image/jpeg"/>
  <Override PartName="/ppt/media/tbesxt.wav" ContentType="audio/x-wav"/>
  <Override PartName="/ppt/media/yeahbaby.wav" ContentType="audio/x-wav"/>
  <Override PartName="/ppt/media/image1.png" ContentType="image/png"/>
  <Override PartName="/ppt/media/chimes.wav" ContentType="audio/x-wav"/>
  <Override PartName="/ppt/media/toldme.wav" ContentType="audio/x-wav"/>
  <Override PartName="/ppt/media/applause.wav" ContentType="audio/x-wav"/>
  <Override PartName="/ppt/media/image6.jpeg" ContentType="image/jpeg"/>
  <Override PartName="/ppt/media/laser.wav" ContentType="audio/x-wav"/>
  <Override PartName="/ppt/media/image4.png" ContentType="image/png"/>
  <Override PartName="/ppt/media/frogcroak.wav" ContentType="audio/x-wav"/>
  <Override PartName="/ppt/media/image3.wmf" ContentType="image/x-wmf"/>
  <Override PartName="/ppt/media/Fanfare3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3F3-7A21-42D1-A72B-441E9767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0E8-6D38-4D00-9B39-4E574FF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DFE-134D-4157-877C-CC36B160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8EB-B3B0-43D1-84BB-44D9876D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F4D-48E2-42E9-B5BF-0CCE92B8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B793-B3CD-4398-818D-252E6C9E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DDB7-4B57-4911-BCFF-4FCBE5D0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1159-3C16-4841-8F14-9108BBA1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3880-A182-4A5E-9605-67E5B184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BD5B-01D1-4EB1-9985-B009D9CA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A5D4-4D0D-4FE4-8223-F998E77C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B9B-CFC1-49FF-A0B1-A6176A8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6182-20F7-43DF-B990-FF7886C1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FB1E-58A8-45BA-A560-DD165039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D4EC-572B-43A0-A984-F5AB5062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E027-FCAF-4B10-B753-2CB39948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F53C-245B-4EF7-90C5-432C40B3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0A1-D792-4FEA-9224-A0D9DDC8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5DF-7339-40D7-8517-41ABBCD6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73A-87C8-4D3A-937A-B34E33C3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723-684B-47FD-82EF-2405736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842-22F0-473C-BDA8-BCBBCA6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89C-DD23-4602-8C20-D7195EBD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697-7226-4FCD-9D72-30F4E4C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27BA-96A2-429F-87CA-64D8DBD584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9614-CCA2-40FD-863F-B8593FEBA6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Fanfare3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Why%20Did%20You%20Do%20That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yeahbaby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tbesx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frogcroak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toldme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ssa Haden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d Wall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ne 27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28600"/>
            <a:ext cx="7696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ris and Walter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cc0000"/>
                </a:solidFill>
                <a:latin typeface="Verdana"/>
              </a:rPr>
              <a:t>beautiful</a:t>
            </a:r>
            <a:r>
              <a:rPr b="0" lang="en-US" sz="119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041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3885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Someone   ate the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962520"/>
            <a:ext cx="4496040" cy="99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160" y="32000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one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 ate the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Will you be my     friend     ?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648320"/>
            <a:ext cx="5105160" cy="1218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Verdana"/>
              </a:rPr>
              <a:t>Will you be my     </a:t>
            </a:r>
            <a:r>
              <a:rPr b="0" lang="en-US" sz="11300" spc="-1" strike="noStrike">
                <a:solidFill>
                  <a:srgbClr val="cc0000"/>
                </a:solidFill>
                <a:latin typeface="Verdana"/>
              </a:rPr>
              <a:t>friend</a:t>
            </a:r>
            <a:r>
              <a:rPr b="0" lang="en-US" sz="1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Look at the word carefully as it flashes on the screen and then we will spell it together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 algn="ctr">
              <a:spcBef>
                <a:spcPts val="43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17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t the words one time as they appear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ckey say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2900520" cy="331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0" y="1676520"/>
            <a:ext cx="4114800" cy="1447560"/>
          </a:xfrm>
          <a:prstGeom prst="wedgeEllipseCallout">
            <a:avLst>
              <a:gd name="adj1" fmla="val -55750"/>
              <a:gd name="adj2" fmla="val 10745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057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Great job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country    .  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733920"/>
            <a:ext cx="396252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15000" y="3878280"/>
            <a:ext cx="3124080" cy="173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5880" y="152280"/>
            <a:ext cx="185436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cc0000"/>
                </a:solidFill>
                <a:latin typeface="Verdana"/>
              </a:rPr>
              <a:t>country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81480" y="3581280"/>
            <a:ext cx="3657600" cy="2030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05720" y="228600"/>
            <a:ext cx="18540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Verdana"/>
              </a:rPr>
              <a:t>I know I put that frog somewhere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14600" y="4419720"/>
            <a:ext cx="5791320" cy="1371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32004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I know I put that frog </a:t>
            </a: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where</a:t>
            </a: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Please go to the  front  of the line.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038480"/>
            <a:ext cx="3733920" cy="10670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lease go to the </a:t>
            </a:r>
            <a:r>
              <a:rPr b="0" lang="en-US" sz="8800" spc="-1" strike="noStrike">
                <a:solidFill>
                  <a:srgbClr val="cc0000"/>
                </a:solidFill>
                <a:latin typeface="Verdana"/>
              </a:rPr>
              <a:t>front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 of the line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14800" y="3352680"/>
            <a:ext cx="76320" cy="76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beautiful     !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233800" cy="2667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4191120"/>
            <a:ext cx="640080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24:07Z</dcterms:created>
  <dc:creator>WebMaster</dc:creator>
  <dc:description/>
  <dc:language>en-US</dc:language>
  <cp:lastModifiedBy>default</cp:lastModifiedBy>
  <dcterms:modified xsi:type="dcterms:W3CDTF">2007-06-28T02:55:32Z</dcterms:modified>
  <cp:revision>23</cp:revision>
  <dc:subject/>
  <dc:title>Slide 1</dc:title>
</cp:coreProperties>
</file>